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7655-08BC-46F6-83E9-CEC365B3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F18-0F67-4F34-8299-0BE99A61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574-7FC2-4F89-A00E-9F8DC76C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FA6-D340-45C6-954A-ED133A43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618-7C13-47C5-BD67-FAE1AF14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935-15D6-4EDF-81CD-4BA9B11C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D18-C413-4F10-B12D-F5E95E14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6C80-A494-4E85-ACD0-DBA0901A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005-22BF-46CE-9A99-15843109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866-7C85-453F-BDED-00A2C9B2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548-947B-44CC-AFE2-493DD1C7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0BC-BFA2-4479-975A-9E02C3AE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66FC-334D-488B-B4BF-AA00D7DEB63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2335320" y="-9360"/>
            <a:ext cx="624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P-HP.SU – MGS Restructuration et extension du bâtiment ACHARD sur le site de TEN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19160" y="5913360"/>
          <a:ext cx="11953800" cy="822240"/>
        </p:xfrm>
        <a:graphic>
          <a:graphicData uri="http://schemas.openxmlformats.org/drawingml/2006/table">
            <a:tbl>
              <a:tblPr/>
              <a:tblGrid>
                <a:gridCol w="1655640"/>
                <a:gridCol w="2328840"/>
                <a:gridCol w="1560600"/>
                <a:gridCol w="3384360"/>
                <a:gridCol w="1152720"/>
                <a:gridCol w="1871640"/>
              </a:tblGrid>
              <a:tr h="273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ître d’ouv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ôle dans l’opé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nc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(SD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f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gridSpan="3"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ût Travaux en €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2"/>
          <p:cNvSpPr/>
          <p:nvPr/>
        </p:nvSpPr>
        <p:spPr>
          <a:xfrm>
            <a:off x="5308200" y="19162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ag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ZoneTexte 2"/>
          <p:cNvSpPr/>
          <p:nvPr/>
        </p:nvSpPr>
        <p:spPr>
          <a:xfrm>
            <a:off x="8695800" y="46080"/>
            <a:ext cx="3580920" cy="4597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ptos"/>
                <a:ea typeface="Calibri"/>
              </a:rPr>
              <a:t>Référence 1 - Archit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Image 1" descr=""/>
          <p:cNvPicPr/>
          <p:nvPr/>
        </p:nvPicPr>
        <p:blipFill>
          <a:blip r:embed="rId1"/>
          <a:stretch/>
        </p:blipFill>
        <p:spPr>
          <a:xfrm>
            <a:off x="92160" y="23760"/>
            <a:ext cx="23889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re 1"/>
          <p:cNvSpPr/>
          <p:nvPr/>
        </p:nvSpPr>
        <p:spPr>
          <a:xfrm>
            <a:off x="2335320" y="-9360"/>
            <a:ext cx="624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P-HP.SU – MGS Restructuration et extension du bâtiment ACHARD sur le site de TEN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19160" y="5913360"/>
          <a:ext cx="11953800" cy="822240"/>
        </p:xfrm>
        <a:graphic>
          <a:graphicData uri="http://schemas.openxmlformats.org/drawingml/2006/table">
            <a:tbl>
              <a:tblPr/>
              <a:tblGrid>
                <a:gridCol w="1655640"/>
                <a:gridCol w="2328840"/>
                <a:gridCol w="1560600"/>
                <a:gridCol w="3384360"/>
                <a:gridCol w="1152720"/>
                <a:gridCol w="1871640"/>
              </a:tblGrid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ître d’ouv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ôle dans l’opé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nc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(SD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f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gridSpan="3"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ût Travaux en €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ZoneTexte 2"/>
          <p:cNvSpPr/>
          <p:nvPr/>
        </p:nvSpPr>
        <p:spPr>
          <a:xfrm>
            <a:off x="5308200" y="19162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ag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ZoneTexte 2"/>
          <p:cNvSpPr/>
          <p:nvPr/>
        </p:nvSpPr>
        <p:spPr>
          <a:xfrm>
            <a:off x="8695800" y="46080"/>
            <a:ext cx="3580920" cy="4597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ptos"/>
                <a:ea typeface="Calibri"/>
              </a:rPr>
              <a:t>Référence 2 - Archit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92160" y="23760"/>
            <a:ext cx="23889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2335320" y="-9360"/>
            <a:ext cx="624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P-HP.SU – MGS Restructuration et extension du bâtiment ACHARD sur le site de TEN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9160" y="5913360"/>
          <a:ext cx="11953800" cy="822240"/>
        </p:xfrm>
        <a:graphic>
          <a:graphicData uri="http://schemas.openxmlformats.org/drawingml/2006/table">
            <a:tbl>
              <a:tblPr/>
              <a:tblGrid>
                <a:gridCol w="1655640"/>
                <a:gridCol w="2328840"/>
                <a:gridCol w="1560600"/>
                <a:gridCol w="3384360"/>
                <a:gridCol w="1152720"/>
                <a:gridCol w="1871640"/>
              </a:tblGrid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ître d’ouv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ôle dans l’opé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nc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(SD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f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gridSpan="3"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ût Travaux en €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" name="ZoneTexte 2"/>
          <p:cNvSpPr/>
          <p:nvPr/>
        </p:nvSpPr>
        <p:spPr>
          <a:xfrm>
            <a:off x="5308200" y="19162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ag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ZoneTexte 2"/>
          <p:cNvSpPr/>
          <p:nvPr/>
        </p:nvSpPr>
        <p:spPr>
          <a:xfrm>
            <a:off x="8695800" y="46080"/>
            <a:ext cx="3580920" cy="4597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ptos"/>
                <a:ea typeface="Calibri"/>
              </a:rPr>
              <a:t>Référence 3 - Archit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mage 1" descr=""/>
          <p:cNvPicPr/>
          <p:nvPr/>
        </p:nvPicPr>
        <p:blipFill>
          <a:blip r:embed="rId1"/>
          <a:stretch/>
        </p:blipFill>
        <p:spPr>
          <a:xfrm>
            <a:off x="92160" y="23760"/>
            <a:ext cx="23889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re 1"/>
          <p:cNvSpPr/>
          <p:nvPr/>
        </p:nvSpPr>
        <p:spPr>
          <a:xfrm>
            <a:off x="2335320" y="-9360"/>
            <a:ext cx="624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P-HP.SU – MGS Restructuration et extension du bâtiment ACHARD sur le site de TEN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9160" y="5913360"/>
          <a:ext cx="11953800" cy="822240"/>
        </p:xfrm>
        <a:graphic>
          <a:graphicData uri="http://schemas.openxmlformats.org/drawingml/2006/table">
            <a:tbl>
              <a:tblPr/>
              <a:tblGrid>
                <a:gridCol w="1655640"/>
                <a:gridCol w="2328840"/>
                <a:gridCol w="1560600"/>
                <a:gridCol w="3384360"/>
                <a:gridCol w="1152720"/>
                <a:gridCol w="1871640"/>
              </a:tblGrid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ître d’ouv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ôle dans l’opé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nc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(SD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f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gridSpan="3"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ût Travaux en €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" name="ZoneTexte 2"/>
          <p:cNvSpPr/>
          <p:nvPr/>
        </p:nvSpPr>
        <p:spPr>
          <a:xfrm>
            <a:off x="5308200" y="19162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ag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ZoneTexte 2"/>
          <p:cNvSpPr/>
          <p:nvPr/>
        </p:nvSpPr>
        <p:spPr>
          <a:xfrm>
            <a:off x="8695800" y="46080"/>
            <a:ext cx="3580920" cy="4597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ptos"/>
                <a:ea typeface="Calibri"/>
              </a:rPr>
              <a:t>Référence 4 - Archit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Image 1" descr=""/>
          <p:cNvPicPr/>
          <p:nvPr/>
        </p:nvPicPr>
        <p:blipFill>
          <a:blip r:embed="rId1"/>
          <a:stretch/>
        </p:blipFill>
        <p:spPr>
          <a:xfrm>
            <a:off x="92160" y="23760"/>
            <a:ext cx="23889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2335320" y="-9360"/>
            <a:ext cx="624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P-HP.SU – MGS Restructuration et extension du bâtiment ACHARD sur le site de TEN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19160" y="5913360"/>
          <a:ext cx="11953800" cy="822240"/>
        </p:xfrm>
        <a:graphic>
          <a:graphicData uri="http://schemas.openxmlformats.org/drawingml/2006/table">
            <a:tbl>
              <a:tblPr/>
              <a:tblGrid>
                <a:gridCol w="1655640"/>
                <a:gridCol w="2328840"/>
                <a:gridCol w="1560600"/>
                <a:gridCol w="3384360"/>
                <a:gridCol w="1152720"/>
                <a:gridCol w="1871640"/>
              </a:tblGrid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ître d’ouv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ôle dans l’opé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nc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(SD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f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gridSpan="3"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ût Travaux en €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ZoneTexte 2"/>
          <p:cNvSpPr/>
          <p:nvPr/>
        </p:nvSpPr>
        <p:spPr>
          <a:xfrm>
            <a:off x="5308200" y="19162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ag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2"/>
          <p:cNvSpPr/>
          <p:nvPr/>
        </p:nvSpPr>
        <p:spPr>
          <a:xfrm>
            <a:off x="8695800" y="46080"/>
            <a:ext cx="3580920" cy="4597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ptos"/>
                <a:ea typeface="Calibri"/>
              </a:rPr>
              <a:t>Référence 5 - Archit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Image 1" descr=""/>
          <p:cNvPicPr/>
          <p:nvPr/>
        </p:nvPicPr>
        <p:blipFill>
          <a:blip r:embed="rId1"/>
          <a:stretch/>
        </p:blipFill>
        <p:spPr>
          <a:xfrm>
            <a:off x="92160" y="23760"/>
            <a:ext cx="23889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2:13:26Z</dcterms:created>
  <dc:creator/>
  <dc:description/>
  <cp:keywords/>
  <dc:language>en-US</dc:language>
  <cp:lastModifiedBy>Laurie GRENIER</cp:lastModifiedBy>
  <cp:lastPrinted>2012-03-05T08:37:59Z</cp:lastPrinted>
  <dcterms:modified xsi:type="dcterms:W3CDTF">2025-09-10T08:11:23Z</dcterms:modified>
  <cp:revision>208</cp:revision>
  <dc:subject/>
  <dc:title>Présentation PowerPoint</dc:title>
</cp:coreProperties>
</file>